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79E-D5FA-4190-BE2C-D5501E7D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DB8-AE4B-4A95-A339-9D01AF14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FCF-CFE2-4941-9AE2-39D30534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5D9-071C-4B2C-8470-00292D06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8D4-D4F0-4207-BB4B-1B3FF475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E20-56BE-4C7B-8FFC-3EFFA20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5BE-E54B-4269-AD66-C5C55E0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A19-C518-4442-B882-ABAD4E6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A15-56DE-4DD3-97B0-B8EF773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F62-D3E3-4127-B1F5-2ABD30D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622-6652-4749-8B93-9FD7CE73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856-974C-42E3-8311-14C59BD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45B5-594F-415E-9979-35EB11F8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>
            <a:off x="5292720" y="2060640"/>
            <a:ext cx="503280" cy="50472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7236000" y="1557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4"/>
          <p:cNvSpPr/>
          <p:nvPr/>
        </p:nvSpPr>
        <p:spPr>
          <a:xfrm>
            <a:off x="1763640" y="1052640"/>
            <a:ext cx="432000" cy="576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8459640" y="98100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/>
          <p:cNvSpPr/>
          <p:nvPr/>
        </p:nvSpPr>
        <p:spPr>
          <a:xfrm>
            <a:off x="6227640" y="76500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7"/>
          <p:cNvSpPr/>
          <p:nvPr/>
        </p:nvSpPr>
        <p:spPr>
          <a:xfrm>
            <a:off x="4140360" y="90792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7812000" y="2060640"/>
            <a:ext cx="990720" cy="33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西江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5555520" y="3933720"/>
            <a:ext cx="1826280" cy="237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辛弃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1"/>
          <p:cNvSpPr/>
          <p:nvPr/>
        </p:nvSpPr>
        <p:spPr>
          <a:xfrm>
            <a:off x="324000" y="333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7812000" y="476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辛弃疾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5661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3495600" y="260280"/>
            <a:ext cx="185724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辛弃疾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788000" y="1268280"/>
            <a:ext cx="3960720" cy="119124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辛弃疾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字幼安，号稼轩，历城（今山东济南）人。南宋爱国词人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参加抗金义军，不久即归南宋。他力主抗金，屡受打击，隐居上饶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。曾短期被起用，但不受重视，抱很而终。其词抒写力图恢复国家统一的爱国热情，倾诉壮志难酬的悲愤，也有不少吟咏祖国河山的作品。艺术风格多样，而以豪放为主，与苏轼并称为“苏辛”。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稼轩长短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042920" y="0"/>
            <a:ext cx="1728720" cy="70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听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836640"/>
            <a:ext cx="4140000" cy="570204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　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西江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明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别枝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惊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清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半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鸣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稻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香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说丰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听取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蛙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一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七八个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天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两三点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山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旧时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茅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社林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路转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溪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忽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27280" y="1125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辛弃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"/>
          <p:cNvPicPr/>
          <p:nvPr/>
        </p:nvPicPr>
        <p:blipFill>
          <a:blip r:embed="rId2"/>
          <a:stretch/>
        </p:blipFill>
        <p:spPr>
          <a:xfrm>
            <a:off x="4716360" y="907920"/>
            <a:ext cx="442764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稻田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4716360" y="836640"/>
            <a:ext cx="4427640" cy="568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utumn%20041"/>
          <p:cNvPicPr/>
          <p:nvPr/>
        </p:nvPicPr>
        <p:blipFill>
          <a:blip r:embed="rId4"/>
          <a:srcRect l="0" t="2874" r="0" b="2928"/>
          <a:stretch/>
        </p:blipFill>
        <p:spPr>
          <a:xfrm>
            <a:off x="4716360" y="857160"/>
            <a:ext cx="4427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87280" y="3716280"/>
            <a:ext cx="6985080" cy="13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首词有个题目“夜行黄沙道中”。辛弃疾退隐上饶带湖期间，经常行经风景优美的黄沙道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492360" y="620640"/>
            <a:ext cx="2376720" cy="82512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解　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835280" y="1700280"/>
            <a:ext cx="554508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西江月”词牌名，每首词都必然有个词牌，但不一定有标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26920" y="1989000"/>
            <a:ext cx="7632720" cy="764280"/>
          </a:xfrm>
          <a:prstGeom prst="rect">
            <a:avLst/>
          </a:prstGeom>
          <a:solidFill>
            <a:srgbClr val="99cc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明月别枝惊鹊，清风半夜鸣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11280" y="3500280"/>
            <a:ext cx="7920000" cy="703440"/>
          </a:xfrm>
          <a:prstGeom prst="rect">
            <a:avLst/>
          </a:prstGeom>
          <a:solidFill>
            <a:srgbClr val="33cc33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先以惊鹊写明月，明月出来了，树枝上的鹊儿一见到光惊飞不定。次写鸣蝉，半夜还有蝉鸣，可见天热，为下片写雨伏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59280" y="620640"/>
            <a:ext cx="273672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逐句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251240" y="692280"/>
            <a:ext cx="740160" cy="7642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稻花香里说丰年，听取蛙声一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11280" y="1700280"/>
            <a:ext cx="793116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两句点明了季节是在夏天，正是稻谷扬花的时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141720"/>
            <a:ext cx="853416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稻花飘香，蛙声一片，又闹又静，乡土气息更浓厚了。词人为农家感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由衷的喜悦</a:t>
            </a:r>
            <a:r>
              <a:rPr b="1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。在这作者把蛙拟人化了，写蛙懂得“说丰年”，既生动地渲染了连蛙也为之欢唱的丰年景象，使之更为突出鲜明，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映托</a:t>
            </a:r>
            <a:r>
              <a:rPr b="1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出人逢丰年的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251600" y="907920"/>
            <a:ext cx="453600" cy="7642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八个星天外，两三点雨山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68360" y="2060640"/>
            <a:ext cx="7991280" cy="6426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上片写晴，下片写雨。这两句描写一场骤雨即将瓢泼而下的气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8360" y="3500280"/>
            <a:ext cx="8064360" cy="642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词人写明星而不写乌云，只用七八个星星来暗示乌云布满天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5013360"/>
            <a:ext cx="7705800" cy="1191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两三点雨”说明雨点很大，不紧，疏朗，将骤雨的前奏写得逼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106000" y="1052640"/>
            <a:ext cx="487476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旧时茅店社林边，路转溪头忽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597800" y="404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2133720"/>
            <a:ext cx="853416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将至，急忙避雨，本来很熟悉茅店的位置，一时竟找不到了，可见词人刚才是怎样的沉浸在“稻花香里说丰年”的意境之中怡然自得，路转了一转，嘿，茅店不就在眼前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>
            <a:hlinkClick r:id="rId1" action="ppaction://hlinksldjump"/>
          </p:cNvPr>
          <p:cNvSpPr/>
          <p:nvPr/>
        </p:nvSpPr>
        <p:spPr>
          <a:xfrm>
            <a:off x="324000" y="5084640"/>
            <a:ext cx="845820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“忽现”把夜行人急寻茅店不着而突然见到的惊喜神态全都表现出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11280" y="1628640"/>
            <a:ext cx="8016840" cy="825120"/>
          </a:xfrm>
          <a:prstGeom prst="rect">
            <a:avLst/>
          </a:prstGeom>
          <a:solidFill>
            <a:srgbClr val="99cc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词人画了一幅江南山村盛夏月夜图，一片诗情画意，优美动人，夜色那么清幽，气氛那么恬静，充满了乡土气息，抒发了丰收在望的喜悦心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348000" y="549360"/>
            <a:ext cx="2592360" cy="825120"/>
          </a:xfrm>
          <a:prstGeom prst="rect">
            <a:avLst/>
          </a:prstGeom>
          <a:solidFill>
            <a:srgbClr val="3333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小　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5:30:41Z</dcterms:created>
  <dc:creator/>
  <dc:description/>
  <dc:language>en-US</dc:language>
  <cp:lastModifiedBy>dreamsummit</cp:lastModifiedBy>
  <dcterms:modified xsi:type="dcterms:W3CDTF">2015-08-03T01:43:26Z</dcterms:modified>
  <cp:revision>7</cp:revision>
  <dc:subject/>
  <dc:title>幻灯片 1</dc:title>
</cp:coreProperties>
</file>